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EFC-7B62-41C2-800C-BCED2C9B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136-A4E2-46DA-956B-ED55910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A6F-FF7B-4493-891D-CFC2EE87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7D9-C7A8-430A-80D2-05A79CC3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E70-3524-4216-A6C6-2E3895F8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8E6-82BD-4B2B-AA7D-E039C46A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E84-EDC0-493B-8398-89D69339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648-8BD5-4D36-970B-B7F2C83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E04-C4EB-4820-A357-D18C8227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444-EF02-4C49-967A-3977049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D28-B833-46BD-8914-5A15DFB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512-1AAA-472B-B9EA-9F488CC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3564-BBA7-4D9C-A587-2A6F02A46F9B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249800">
            <a:off x="971280" y="-315720"/>
            <a:ext cx="7119720" cy="662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m  fet  mereng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6635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gredi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ra  D’ 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cessitem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qui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 es fa mereng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85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em en un plat les clares i el   sucre i batem molt ràpid fins que es posi consist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altres fem a meren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83688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816360" cy="251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74508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3816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54:37Z</dcterms:created>
  <dc:creator>argo</dc:creator>
  <dc:description/>
  <dc:language>en-US</dc:language>
  <cp:lastModifiedBy>argo</cp:lastModifiedBy>
  <dcterms:modified xsi:type="dcterms:W3CDTF">2009-06-12T07:46:17Z</dcterms:modified>
  <cp:revision>3</cp:revision>
  <dc:subject/>
  <dc:title>Diapositiva 1</dc:title>
</cp:coreProperties>
</file>